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B813A-BB67-4844-AECA-42733D701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7F21D-9E44-4D3C-9C72-AE96492F2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7F7FD-3DED-40DA-923F-84D000C9F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E2FA4-11A0-43F7-B6C7-5DEBA13B6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A5E94-7FE0-4AEF-A054-2F8143F57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2BBD1-DC8D-41E6-AEF4-38B106850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4B704-7039-40A4-9636-99F9A5D02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D5C6B-0D7C-4873-B875-11BCAEAB7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8D94B-1493-468C-8453-10D93F4D1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3C83B-B545-4202-B9B8-4123DEAEE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2136D-2640-44ED-91F9-43ED76543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60B28-378B-4538-B6ED-1741E9D97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C7313-2951-4F6F-BCC0-A104821DB16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980640"/>
            <a:ext cx="7772400" cy="294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«Применение инновационных технологий на занятиях в творческом объединении «Рукоделие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4000" y="4643280"/>
            <a:ext cx="532764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уркаева  Елена Васильевна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едагог дополнительного образования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КОУ ДО ДДТ ст. Старолеушковск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Рисунок 1" descr="IMG_3928.jpg"/>
          <p:cNvPicPr/>
          <p:nvPr/>
        </p:nvPicPr>
        <p:blipFill>
          <a:blip r:embed="rId1"/>
          <a:stretch/>
        </p:blipFill>
        <p:spPr>
          <a:xfrm>
            <a:off x="428760" y="285840"/>
            <a:ext cx="4349520" cy="326232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3" descr="IMG_3927.jpg"/>
          <p:cNvPicPr/>
          <p:nvPr/>
        </p:nvPicPr>
        <p:blipFill>
          <a:blip r:embed="rId2"/>
          <a:stretch/>
        </p:blipFill>
        <p:spPr>
          <a:xfrm>
            <a:off x="4000680" y="2214720"/>
            <a:ext cx="5349600" cy="40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043840" cy="22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Художественно- эстетическое развитие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процесс развития способностей видеть красоту окружающего мира, искусства и создавать е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2356920"/>
            <a:ext cx="7972560" cy="37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ктуальность проблемы художественно-эстетического развития обучающихся определяется те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что 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художественно-эстетическое развит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- важнейшая сторона воспитания личности. Оно способствует обогащению чувственного опыта, эмоциональной сферы, влияет на познание нравственной стороны действительности, повышает и познавательную активн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ектная методика характеризуетс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сокой коммуникативность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ражением обучающимися своих собственных мнений, чувств, мысле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ктивным включением в реальную деятель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нятием личной ответственности за поставленные це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цель проектной деятельност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599840"/>
            <a:ext cx="7972560" cy="39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здание условий для исследования доступных обучающимся пробле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витие воображения и мышл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витие способности организовать свою работу, оценивать её результа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ыть активным участником культурно - творческой деятель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Рисунок 3" descr="Видео Евы 024.JPG"/>
          <p:cNvPicPr/>
          <p:nvPr/>
        </p:nvPicPr>
        <p:blipFill>
          <a:blip r:embed="rId1"/>
          <a:stretch/>
        </p:blipFill>
        <p:spPr>
          <a:xfrm>
            <a:off x="0" y="0"/>
            <a:ext cx="4500720" cy="337500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6" descr="IMG_8249.JPG"/>
          <p:cNvPicPr/>
          <p:nvPr/>
        </p:nvPicPr>
        <p:blipFill>
          <a:blip r:embed="rId2"/>
          <a:stretch/>
        </p:blipFill>
        <p:spPr>
          <a:xfrm>
            <a:off x="4500720" y="0"/>
            <a:ext cx="4429080" cy="332280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1" descr=""/>
          <p:cNvPicPr/>
          <p:nvPr/>
        </p:nvPicPr>
        <p:blipFill>
          <a:blip r:embed="rId3"/>
          <a:stretch/>
        </p:blipFill>
        <p:spPr>
          <a:xfrm>
            <a:off x="14400" y="2997360"/>
            <a:ext cx="4144680" cy="31082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"/>
          <p:cNvPicPr/>
          <p:nvPr/>
        </p:nvPicPr>
        <p:blipFill>
          <a:blip r:embed="rId4"/>
          <a:stretch/>
        </p:blipFill>
        <p:spPr>
          <a:xfrm>
            <a:off x="3851280" y="2295360"/>
            <a:ext cx="507852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580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дач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6840" y="1500120"/>
            <a:ext cx="8115480" cy="46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здание эстетического пространства и среды, способствующей эстетическому воспитанию, развитию самостоятельности, ответственности, культуры поведения и бесконфликтного общ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еспечение обучающимся возможности самопознания, самореализаци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витие эстетического чувства и художественной инициатив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Рисунок 4" descr="20180118153234.jpg"/>
          <p:cNvPicPr/>
          <p:nvPr/>
        </p:nvPicPr>
        <p:blipFill>
          <a:blip r:embed="rId1"/>
          <a:stretch/>
        </p:blipFill>
        <p:spPr>
          <a:xfrm>
            <a:off x="428760" y="214200"/>
            <a:ext cx="2892240" cy="514368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8" descr="IMG_6783.jpg"/>
          <p:cNvPicPr/>
          <p:nvPr/>
        </p:nvPicPr>
        <p:blipFill>
          <a:blip r:embed="rId2"/>
          <a:stretch/>
        </p:blipFill>
        <p:spPr>
          <a:xfrm>
            <a:off x="3571920" y="1928880"/>
            <a:ext cx="5572080" cy="4178160"/>
          </a:xfrm>
          <a:prstGeom prst="rect">
            <a:avLst/>
          </a:prstGeom>
          <a:ln w="0">
            <a:noFill/>
          </a:ln>
        </p:spPr>
      </p:pic>
      <p:pic>
        <p:nvPicPr>
          <p:cNvPr id="57" name="Рисунок 1" descr=""/>
          <p:cNvPicPr/>
          <p:nvPr/>
        </p:nvPicPr>
        <p:blipFill>
          <a:blip r:embed="rId3"/>
          <a:stretch/>
        </p:blipFill>
        <p:spPr>
          <a:xfrm>
            <a:off x="0" y="3429000"/>
            <a:ext cx="4572000" cy="257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едагогические условия эффективного художественно- эстетического развития обучающихс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6840" y="1999800"/>
            <a:ext cx="8115480" cy="41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здание духовной атмосферы в учебном кабине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ичностно-творческая организация  учебно - воспитательного процес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влечение в активную творческую деятельнос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Рисунок 1" descr="IMG_6880.jpg"/>
          <p:cNvPicPr/>
          <p:nvPr/>
        </p:nvPicPr>
        <p:blipFill>
          <a:blip r:embed="rId1"/>
          <a:stretch/>
        </p:blipFill>
        <p:spPr>
          <a:xfrm>
            <a:off x="285840" y="428760"/>
            <a:ext cx="4643280" cy="3483000"/>
          </a:xfrm>
          <a:prstGeom prst="rect">
            <a:avLst/>
          </a:prstGeom>
          <a:ln w="0">
            <a:noFill/>
          </a:ln>
        </p:spPr>
      </p:pic>
      <p:pic>
        <p:nvPicPr>
          <p:cNvPr id="61" name="Рисунок 2" descr="IMG_6738.jpg"/>
          <p:cNvPicPr/>
          <p:nvPr/>
        </p:nvPicPr>
        <p:blipFill>
          <a:blip r:embed="rId2"/>
          <a:stretch/>
        </p:blipFill>
        <p:spPr>
          <a:xfrm>
            <a:off x="4788000" y="1890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62" name="Рисунок 1" descr=""/>
          <p:cNvPicPr/>
          <p:nvPr/>
        </p:nvPicPr>
        <p:blipFill>
          <a:blip r:embed="rId3"/>
          <a:stretch/>
        </p:blipFill>
        <p:spPr>
          <a:xfrm>
            <a:off x="2259000" y="3500280"/>
            <a:ext cx="4977000" cy="28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8T19:05:21Z</dcterms:created>
  <dc:creator>Елена</dc:creator>
  <dc:description/>
  <dc:language>en-US</dc:language>
  <cp:lastModifiedBy>Admin</cp:lastModifiedBy>
  <dcterms:modified xsi:type="dcterms:W3CDTF">2007-03-26T20:50:06Z</dcterms:modified>
  <cp:revision>45</cp:revision>
  <dc:subject/>
  <dc:title>Слайд 1</dc:title>
</cp:coreProperties>
</file>